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AC5-5F90-4351-8B64-0F085307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707-030E-4E68-B639-1D7565D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A1604-A704-4535-918A-2259671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AB8D8-1B49-422E-950D-29BBC22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AC46D-290F-4F21-B3D9-CFE2B11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B9636-8541-4C8C-99F9-ABC10383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898A7-2558-4BB2-9732-76FE724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B5CC1-8E32-424A-83FA-6630A90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B445-E42A-43E5-8223-689B62D1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3A3B7-7199-4054-9071-2A2572CF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C16DB-4335-4C7D-884D-50614720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27728-56A6-4C83-BED7-2BAAA01F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F76-F12A-4DE5-99EA-51F1DDE7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1E7C1-58A1-489E-95C6-9D1DF68B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BC93F-A26A-48A4-A608-3E10806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F714F-2151-49FC-9756-C0FAD435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E63D-1B3C-411A-88D1-916A091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4E7D8-DCCE-435A-B5F2-55B3F30D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D8437-419A-49ED-BF37-CC2F4BBE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8519-4CD0-4E3A-AC59-5C0E19F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A1C9-ACF3-4C79-B7BD-3979938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D1D50-B036-4353-8E3E-E42B962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8D1B-586F-4FC3-89C6-D64E97F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588-BB2C-4159-9633-8975B5C4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A43FC-C86F-4535-9BA7-D986B684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0A2E-C6DF-4C78-8EFE-A5533EAF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5E087-D567-4594-BEA0-9270426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ADBDC-69C7-4996-81E1-7B489712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BDBD-9CFE-437B-8941-1A6CE8E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E3429-FAB1-4A81-A63D-1ABBDEC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1F9E2-A8F0-41D0-AC61-F97C0116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F729-2D14-4E14-9AFB-1D73108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A9EDA-D78E-4810-B1FD-66F0F6E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EAD5-4E57-4C96-9A32-3628274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1174-197C-48F0-BC6D-574E1F01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792E3-E08A-4447-A207-09CA25D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9FB25-6A27-482A-ACAE-A9209BDB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C8470-9938-40D8-B1FA-5643A1B5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C20E5-AE71-435B-9F88-B42C3E13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C5CE0-2A4F-42A2-B8EC-F6E4BB6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AF23-AE2F-4D11-90BF-94D62A7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BF7A9-B56C-41CF-8AFB-7BE8CF1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B5928-1A54-4C70-A346-B55D4D8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E7D7C-0569-4A2A-82E9-9A3E9F3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C4FED-AED9-43D7-8299-B2E7501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724A-E715-4FDE-9655-855CFDD6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F2F27-0CC3-4C16-826D-8519E44D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0204A-D292-44F3-AC54-9E52E88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52054-B615-4C10-9FAF-4F519652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AE558-C400-4D21-8B44-5327B3DF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E2F0E-40F7-49DD-9658-ABB49850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C1A-4884-47AA-ADBF-094A96A6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2F3-7436-478D-A72C-4BF0393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550-B41D-48C0-BD32-8375BFD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1E56-B3EF-4DF9-BB3C-4DBF497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93DF-832F-4ADB-BFC7-FC84BF0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06B-3877-44DE-B6BD-C11CCE3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ACF8-E2A9-4DE9-B424-8B8A9DB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12C0-EDDD-41DC-A9E9-3B217F7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738-D318-4F16-A34B-AE16CF19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D1C1-E152-49FA-9FD1-7A3FF2A2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B5D6-28F5-42E7-A339-D0D6FDF6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6468-2C47-47FC-B5DA-B6712F6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2D84-9464-456B-978C-2B5BCBA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57CC-10EA-4744-9F2B-2725B0B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BEEB-126C-4A17-981B-54B4574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98A5-E63C-4467-95CF-281A15F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32D-0A4B-4E8B-9420-FF116C86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1B57-64FE-4E6F-89CC-6B3C69D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44E3-F59B-407B-A83B-E1FDDDE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D5B6-DE54-4593-9517-A34A522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6615-642A-467B-96E9-8BDF371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0284-78E7-4EF4-98B5-26FF09A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AF27-32DC-4B84-ACA6-8AC61F80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5BBB-2A27-4035-B8E8-0C93B470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FCF3-9E1B-4E56-958E-4C614C41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4EB8-718D-4141-8A00-38951C9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C548-D870-4765-9B41-5F74F3C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9CB-DD3C-4DA1-AE0B-5E1776CB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8D0C-4102-4F26-8F99-E6D55EDF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53C4-6CFC-40DB-8F32-9EBE96DE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46CA-E1BD-425E-A494-3FAAAC69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870F-0435-4D54-81B5-B6ED510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19FA-5DE6-4F0E-AE30-7DD27DD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6F07-DA8A-4EA7-8F33-A328049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274E-1285-4117-8BC9-66C3239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E548-86E7-4EA1-BE8F-3180086A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178E-D8ED-48C2-9740-7B7D1E59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0DDA5-6349-478F-9655-B8466BF1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1A-37C1-4B33-AF80-4F298DC8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A74D-FDE4-4C4A-B5DA-DD42777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7FA1-89CF-47F8-94C8-162439B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EB5D-FD41-4FBF-940C-DBCA954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5D08-D6D6-4033-8E12-0E74A00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55FB-729C-485F-AEBE-AE2A9E30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D3E1-C13E-43AD-9123-0D2DBB0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A2EA-28F0-4D99-94B4-4FB3049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3B38-119A-4ABA-9BFE-DBC0952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4D1C-BD46-419C-A12D-7709A41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722B1-8B8B-46EC-82AE-41D4CC13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1D4-DACE-4827-9539-F196E50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D490-F088-41F6-A204-EAB8B281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30BB-4394-41E7-91B0-781208F7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95EC-2048-44D8-B0AB-99FA242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F0AE-75AB-4DA0-B0F6-C8839330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7D34D-5343-48CA-BBBF-FC029E0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3482-3C76-4F25-BBD4-AD35CA4D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A8B7-1495-4401-AFEB-276A24D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EDA1D-502F-4C10-B8E7-5C84563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E456-043D-43CE-B954-987A10E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8ADB-FB3A-4E5C-AF6F-6DD4689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1AB-7EA3-45A7-9F93-874829F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975F-26BE-42B1-8561-F9C9004C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279A-9296-4732-B3E8-3E8FBD15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08FF-17C2-4BAE-9E5B-436D7A9D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33B0-45F6-4832-BFF9-89E53177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34E5B-492F-4D9C-931A-34FCBF6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A8AD0-CA91-475A-9394-2910E4A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DF67-CD89-4495-A6D9-79382F69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98A58-E038-4603-A791-AC9EE57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72B0-8891-4769-8D68-13F32BB2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5828-0237-4126-A24D-700910F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B21-F3AD-42A7-9E09-2525D4D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20D7-84A8-4F07-92EE-B3D869C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7C1E-26F1-4ACE-8A86-4EA0C68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43F9-659E-41EF-9C75-1DAB16C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57671-64E6-42D2-B1B8-CA982616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9E41-AC10-4B56-9242-A1D06B6E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8333-B64D-48DE-B043-D09C3857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F4D8E-D956-4784-B6ED-163E94E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AF39B-1BEF-442E-8F15-D87B287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FA901-4384-42E4-8B08-387809D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43CB6-7B90-49C6-9F57-25268765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FA0-9E1C-449C-B8A8-D3B1F1D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5DBE-2437-4B49-BF73-3C901D2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0782-BE0D-46BE-BBA7-BC1DC42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432AC-7D99-4A10-AB0D-7EB8119E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2431A-F761-4D34-9AA1-7D1592B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A7E4-0A2F-48C4-935E-46BF76E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7C9E-F3E0-4DAD-91FF-A92EFF29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B48D-E5DD-430B-B0DD-35F7CE54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79A8-D667-4C2A-B366-FF2EDAA5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D5D0E-78BB-422B-BA51-CED2275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AA62C-6CCE-4A24-B919-79B2D2C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5E7-A064-4856-AD80-66949658FC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579-81B7-4898-AF39-508B51DBE9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B3A1-B9D7-4DBB-8EE7-3F2DE950D6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18F-D275-4969-B929-3915294606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011-6691-4A2F-8CDF-B602583B1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49E-0A44-45AF-963B-DB1C024F9F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514-7AEE-4929-B255-D940FBC0E7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60C-CCAE-471C-A85B-ED16E43676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954-FD8C-4ABA-BD3D-B7A3A44F56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48CF-FCE6-455E-BB01-DA6FF1A50B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D2C-1A2D-45C3-AFEF-A16C38AE0F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304A-9D31-4184-BB4E-69FEF50B89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8 Čo ja ti d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ja ti dá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stojím s rukou prázd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m už sl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ĺkne piesne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, Pane, 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len hlinou már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rosbou sa blí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voj slávy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ťažkých skúšk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raz vieru strác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ebe daj mi silu načerp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om mnou 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ivný môj Rad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emôžem si nad to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už pri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9:12Z</dcterms:modified>
  <cp:revision>22</cp:revision>
  <dc:subject/>
  <dc:title>Je veľký náš Pán, on slávy je Kráľ Nech do všetkých strán  spev vrúcnych znie chvál.</dc:title>
</cp:coreProperties>
</file>